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1D5E-2990-41BF-B8AC-CD27514CA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3E7D-2795-4DD0-8374-F158F898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14B4-0696-4935-A9C9-4BBDAD8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5762-6B28-40C5-88D3-381375FF5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E2DD-163A-4680-AD85-AA48E585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2EC4-2B28-44EB-84EF-D65882A1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497D-9F13-4EBF-9534-722562C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D190-B6AA-4A1D-BBDC-236F1A1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D1B1-53FD-4324-86D9-630873AF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1AFF-5CD7-4882-8CCD-6B8E990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AEC4-2BCE-4FA2-9C93-11566CA4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8E7B-80E2-4D66-96BE-17BCEA7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4BB02-D5E3-4F4F-943F-0E828F88A932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: small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 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[10]=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oo(&amp;p,a) gets address of p and can do *p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f p is in shared memory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foo(&amp;p) gets (typically) different addres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hysical memory is always mapped to actual addresses by the op system: physical memory pages are mapped differently ea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locate 1M of shared 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t block at address, say 5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other process “attaches” to memory, gets address 8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Opsystem 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neral term: mutexes, semaphor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ctual api-s in o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th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et us take a variable L as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read it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&gt;= 0 (nobody is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++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-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write it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is 0 (nobody is reading/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t L to -1 (i am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set L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ache and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should be full cac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ache line is typically 64 or 12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read but somebody is wri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L&gt;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hat to do when L=-1?? (somebody wri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op until L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fter a short while do a pause yielding control to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crease each time th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Queue i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process has its own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mplement as a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lement: lock and offset t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     0     R     W     R     R    R   R   W  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2 cores, 2 processors : works 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Original article: 128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one more process than core, then ca 1000 times performance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Write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omebody always reading, cannot ever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ause X microsec after every 100 reading: no reading allowed (roughly what sqlite does: regularly give priority to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Waiting writer sets a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fter 100 steps check flag? If flag, no readers started during X micro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Make our own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with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ways when several processes use the same resource concurr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emory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write to row X p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But: actually a lot more is d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dex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tatistics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Etc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ac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ay we have N web apps on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ypical shared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. Has transactions: built-in l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s. Similar to databases: built-in l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 structures in memory? No universal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Basic lock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Global read-write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rbitrary many processes can rea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X writes, then no other process may read or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lterna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oordina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Write a copy of new data, new index pag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an atomic “swap/switch” to new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mon: multiprocess databases (mysql, postgresql, oracle jne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brary” databases (sqlit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ukustamise asi teistmoodi kui “suurt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is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Mem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rocesses: shared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Threads: shared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al process memory + commo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ockets (like net: sockets connected to 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oogle andr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9:21Z</dcterms:created>
  <dc:creator>tanel</dc:creator>
  <dc:description/>
  <dc:language>en-US</dc:language>
  <cp:lastModifiedBy>tanel</cp:lastModifiedBy>
  <dcterms:modified xsi:type="dcterms:W3CDTF">2009-12-02T15:31:31Z</dcterms:modified>
  <cp:revision>18</cp:revision>
  <dc:subject/>
  <dc:title>Locking: small intro</dc:title>
</cp:coreProperties>
</file>